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0.wmf" ContentType="image/x-wmf"/>
  <Override PartName="/ppt/media/image28.png" ContentType="image/png"/>
  <Override PartName="/ppt/media/image49.wmf" ContentType="image/x-wmf"/>
  <Override PartName="/ppt/media/image11.png" ContentType="image/png"/>
  <Override PartName="/ppt/media/image10.wmf" ContentType="image/x-wmf"/>
  <Override PartName="/ppt/media/image47.wmf" ContentType="image/x-wmf"/>
  <Override PartName="/ppt/media/image2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51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62.wmf" ContentType="image/x-wmf"/>
  <Override PartName="/ppt/media/image22.png" ContentType="image/png"/>
  <Override PartName="/ppt/media/image4.wmf" ContentType="image/x-wmf"/>
  <Override PartName="/ppt/media/image59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3.wmf" ContentType="image/x-wmf"/>
  <Override PartName="/ppt/media/image58.png" ContentType="image/png"/>
  <Override PartName="/ppt/media/image21.png" ContentType="image/png"/>
  <Override PartName="/ppt/media/image23.png" ContentType="image/png"/>
  <Override PartName="/ppt/media/image36.png" ContentType="image/png"/>
  <Override PartName="/ppt/media/image20.png" ContentType="image/png"/>
  <Override PartName="/ppt/media/image24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8.png" ContentType="image/png"/>
  <Override PartName="/ppt/media/image12.png" ContentType="image/png"/>
  <Override PartName="/ppt/media/image52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19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30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61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5B1A-65A7-44C3-BC41-2CF3909B4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10B77B-DB66-48CD-B46A-1290EC19E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57E80B-3CC6-4951-9D79-7FBB637DC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0AAC39-3184-4764-B681-016B08B19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E29E-FE4B-474A-B629-42AE7A605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E83400-F7ED-47CD-86C8-68690EBAF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39AFFD-C97A-4AAB-A69B-538A09D68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39CA5D-CE6A-4073-A58F-06A98C5C6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9EC1C8-280D-4BE4-89D7-AAC59ECB4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F0295F-0405-4189-AE91-F63DF5938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17B747-D039-42AD-97E8-24BC2DD6D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638A8A-DEE4-4C7A-BDD5-32A0FDB85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EFDA85-4880-4904-AA40-102953691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A3461E-2884-42AB-99AC-AF859A579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475790-FD41-428B-999F-C529B28A5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B7F708-1C57-4ABA-BEC4-ED2F8E9AE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343E7A-FFF5-4200-918A-F716544EF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8FD579-9A04-4935-8590-46301357A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B2524E-2865-4D96-9FEB-365571121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6E0F63-1F77-421B-A292-D482EB2F7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49D54A-6239-4276-ABDF-2C461B5B5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C8F9AB-E5F4-41C3-AAE7-D9159DCD0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20C3B4-02AA-4194-AFCF-7AE05DF3B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3141-E458-48C9-8B3A-0D7001452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3F9BB3-3D7B-41D6-B65C-8E17B90C5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CF8080-9F9F-471D-8798-A0EB4F39F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FBBBCE-B393-485F-9DE1-445F59798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57FE9C-46DE-4912-9ADA-1EF484AC9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AAEEE6-EF6A-44F6-B7A4-08D0098F0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33F5CB-02D4-4D0E-AFBD-FDB072D3F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ADF960-ADD8-465C-A4B5-E5CEC0EF3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3816ED-11EC-4F98-AFD0-524EE7D53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986C51-249C-4195-ABDB-37ED366C3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5AD4-7B02-4C23-AA9E-2D1309CC2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D14A1E-CDB0-4746-AEB8-1C0E8B11C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04D9-C943-4C5B-946A-01F720D7E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46CB-670F-48AB-AE49-712EB5973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3F0B23-D833-4877-A082-CB6E17FB1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CB264E-9171-4DC4-9FE6-2247B0377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691-3E07-48F6-9487-ABB26211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CFF-BBCD-4D2F-BEFB-20441760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0A8-1DD5-4E18-8986-FD3E12EB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96F-CAE9-4D61-AB50-FE1FAAD2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B22A7-1381-4E3B-A557-9AED9656DE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85600-7674-4FE7-8849-1118AEB41C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F348B-DEA6-429C-8545-D05679F678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FC0E6-9FC2-4828-9EFB-68FCA1C467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94260-CF45-4D3D-AD44-6FCADFB846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083C6-1EAC-4C46-A9F2-AD0F881D7E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1701B-8765-489E-9F55-EB3D7B0C17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E43-4A3D-456E-B058-A6980BE0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44537-F251-4DAC-A69B-68FE5951EE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9FDF7-3608-4BDC-A284-D0E3C63FDF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D45D5-98DD-4A24-8461-2BC9D9560C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112A9-F479-4DFF-AFB2-A48C5CC9FE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CB054-0AA9-4A35-8941-4B89B7234D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E4D-0A9F-408B-A3D8-C005D90E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044-75A0-479C-911C-2DB3259C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E9D-156D-4BBB-9678-6BBE13E1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908-FCFE-4014-9F54-2ED15893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F58-C04A-4628-836C-69C2CFBF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57C-87BB-4B81-9050-84F14803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8EF-E4C6-47B0-93E2-FB60E248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2A2A-2403-4ED9-A7CC-D1C9B07986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107C-4892-4D0A-BA2F-879EF29BBD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DD7C-F337-419E-98AA-EC3E26604F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ur paramet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length, 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twist 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offset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joint ang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trix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function of only a single variabl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 turns out that three of the above four quantities are constant for a given link, while the fourth parameter is the joint vari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2B6E-9175-4176-AE9C-6C3111992F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oint, a joint variable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joints are represented by the z-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revolute, the z-axis is in the direction of rotation as followed by the right hand r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prismatic, the z-axis for the joint is along the direction of the liner m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C75F-9272-4E46-95C8-06F0B76C97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498492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bine all transformations, from the first joint (base) to the next until we get to the last joint, to get the robot’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tal transformation matri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From     , the position and orientation of the tool frame are calcul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4732-72A4-42E0-BB03-A1D0981C04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8"/>
          <p:cNvGraphicFramePr/>
          <p:nvPr/>
        </p:nvGraphicFramePr>
        <p:xfrm>
          <a:off x="1676520" y="3657600"/>
          <a:ext cx="30765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57600"/>
                    <a:ext cx="3076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76520" y="4518000"/>
          <a:ext cx="38088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18000"/>
                    <a:ext cx="380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7D6F-D748-4E3F-A929-0B9A35614C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C:\Documents and Settings\Administrator\Desktop\untitled.bmp"/>
          <p:cNvPicPr/>
          <p:nvPr/>
        </p:nvPicPr>
        <p:blipFill>
          <a:blip r:embed="rId1"/>
          <a:stretch/>
        </p:blipFill>
        <p:spPr>
          <a:xfrm>
            <a:off x="457200" y="1514520"/>
            <a:ext cx="8448840" cy="5343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2A42-F8F3-4557-9BFD-61521CC8F8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87105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88C8-C935-4602-8C28-08086B9075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Documents and Settings\Administrator\Desktop\untitled.bmp"/>
          <p:cNvPicPr/>
          <p:nvPr/>
        </p:nvPicPr>
        <p:blipFill>
          <a:blip r:embed="rId2"/>
          <a:stretch/>
        </p:blipFill>
        <p:spPr>
          <a:xfrm>
            <a:off x="304920" y="1523880"/>
            <a:ext cx="8629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1B86-5607-4250-9615-48902252A8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866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9"/>
          <p:cNvGraphicFramePr/>
          <p:nvPr/>
        </p:nvGraphicFramePr>
        <p:xfrm>
          <a:off x="2133720" y="2895480"/>
          <a:ext cx="414468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89548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380880" y="4952880"/>
            <a:ext cx="813456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5"/>
          <a:stretch/>
        </p:blipFill>
        <p:spPr>
          <a:xfrm>
            <a:off x="457200" y="1295280"/>
            <a:ext cx="83059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E86D-6539-487F-809E-14AF5EFE2F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9"/>
          <p:cNvSpPr/>
          <p:nvPr/>
        </p:nvSpPr>
        <p:spPr>
          <a:xfrm>
            <a:off x="838080" y="1925640"/>
            <a:ext cx="441972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frame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Z ‘s are normal to th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9" descr=""/>
          <p:cNvPicPr/>
          <p:nvPr/>
        </p:nvPicPr>
        <p:blipFill>
          <a:blip r:embed="rId1"/>
          <a:stretch/>
        </p:blipFill>
        <p:spPr>
          <a:xfrm>
            <a:off x="4645080" y="1447920"/>
            <a:ext cx="4498920" cy="373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0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81AE-A4B3-4609-BCA6-50ACF34CFF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5829120" cy="1809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9243-BEBE-41AE-87E9-B5A0D84E16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6381720" cy="4424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0" y="4038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and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and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0763-7A90-4009-A51B-268AF7EBA7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F4E8-4D18-4A57-9BBD-39B7DFD3FF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1752480"/>
            <a:ext cx="3143160" cy="3962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200400" y="3276720"/>
            <a:ext cx="57150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877C-5DF2-4520-8E72-E6ECA50DF8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1486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B66E-8BD8-46DD-B766-450FAD2107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71880" cy="4905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4387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AD90-8039-4530-9BF5-2922322B9D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3717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F411-544F-4DC1-AE12-6DB9722497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100240" y="2728800"/>
            <a:ext cx="49435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E6DE-CE23-4814-8699-CBDA696887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71600" y="2263680"/>
            <a:ext cx="55627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06E4-C209-466F-8941-792BC477E5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105440" cy="3284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36097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3448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D20F-C511-4E2A-80B7-057B2D3A2D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581200" y="1849320"/>
            <a:ext cx="39816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01D9-9347-4B76-92A6-8DB4627A08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848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CCDA-958B-45A2-8535-87A6203114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106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homogeneous transformatio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ating the tool frame to the fixed base 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1F09-06B2-47F1-A0EE-DDA46A037C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3676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AF7B-844F-4180-A475-6DC04E961B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350208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Object 5"/>
          <p:cNvGraphicFramePr/>
          <p:nvPr/>
        </p:nvGraphicFramePr>
        <p:xfrm>
          <a:off x="819000" y="3886200"/>
          <a:ext cx="62892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3886200"/>
                    <a:ext cx="628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5524560" y="3962520"/>
          <a:ext cx="49536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24560" y="3962520"/>
                    <a:ext cx="495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by example 2, and        given by example  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D820-A284-4CE3-882A-2A69C0F2F7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458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8BA5-ED0C-418D-9665-A43EDB2410B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2063880" y="1676520"/>
            <a:ext cx="4432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CBD-685C-4847-9DB9-AE2AD56588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ward kinemat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 position of the end-effector: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orientation {Roll, Pitch, Yaw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1332000" y="3886200"/>
          <a:ext cx="53737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886200"/>
                    <a:ext cx="53737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l Pitch Y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9"/>
          <p:cNvGrpSpPr/>
          <p:nvPr/>
        </p:nvGrpSpPr>
        <p:grpSpPr>
          <a:xfrm>
            <a:off x="4801320" y="2048040"/>
            <a:ext cx="4035600" cy="3517200"/>
            <a:chOff x="4801320" y="2048040"/>
            <a:chExt cx="4035600" cy="3517200"/>
          </a:xfrm>
        </p:grpSpPr>
        <p:grpSp>
          <p:nvGrpSpPr>
            <p:cNvPr id="239" name="Group 4"/>
            <p:cNvGrpSpPr/>
            <p:nvPr/>
          </p:nvGrpSpPr>
          <p:grpSpPr>
            <a:xfrm>
              <a:off x="5332320" y="2527200"/>
              <a:ext cx="3200400" cy="2743200"/>
              <a:chOff x="5332320" y="2527200"/>
              <a:chExt cx="3200400" cy="2743200"/>
            </a:xfrm>
          </p:grpSpPr>
          <p:sp>
            <p:nvSpPr>
              <p:cNvPr id="240" name="Line 5"/>
              <p:cNvSpPr/>
              <p:nvPr/>
            </p:nvSpPr>
            <p:spPr>
              <a:xfrm flipV="1">
                <a:off x="6703920" y="252720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6"/>
              <p:cNvSpPr/>
              <p:nvPr/>
            </p:nvSpPr>
            <p:spPr>
              <a:xfrm flipH="1">
                <a:off x="5332320" y="435600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6703920" y="435600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6399000" y="306072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 rot="16336800">
                <a:off x="5724360" y="466164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 rot="5753400">
                <a:off x="7395840" y="418140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Text Box 11"/>
            <p:cNvSpPr/>
            <p:nvPr/>
          </p:nvSpPr>
          <p:spPr>
            <a:xfrm>
              <a:off x="480132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>
              <a:off x="8436600" y="411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6442200" y="2048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9" name="Object 1024"/>
            <p:cNvGraphicFramePr/>
            <p:nvPr/>
          </p:nvGraphicFramePr>
          <p:xfrm>
            <a:off x="5402160" y="4324680"/>
            <a:ext cx="380880" cy="41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2160" y="4324680"/>
                      <a:ext cx="3808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1" name="Object 1025"/>
                <p:cNvSpPr txBox="1"/>
                <p:nvPr/>
              </p:nvSpPr>
              <p:spPr>
                <a:xfrm>
                  <a:off x="7916760" y="454212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2" name="Object 1026"/>
                <p:cNvSpPr txBox="1"/>
                <p:nvPr/>
              </p:nvSpPr>
              <p:spPr>
                <a:xfrm>
                  <a:off x="6870600" y="255744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3" name="Object 15"/>
          <p:cNvGraphicFramePr/>
          <p:nvPr/>
        </p:nvGraphicFramePr>
        <p:xfrm>
          <a:off x="457200" y="2514600"/>
          <a:ext cx="5257800" cy="14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514600"/>
                    <a:ext cx="52578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AB8F91-344A-4A7C-997B-EFA5FAE0E1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16"/>
          <p:cNvGraphicFramePr/>
          <p:nvPr/>
        </p:nvGraphicFramePr>
        <p:xfrm>
          <a:off x="228600" y="4105440"/>
          <a:ext cx="4495680" cy="23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105440"/>
                    <a:ext cx="44956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1F66-04F3-4499-B4E3-046C235CEC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calcul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the matrix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 wi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f the matr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Object 2"/>
          <p:cNvGraphicFramePr/>
          <p:nvPr/>
        </p:nvGraphicFramePr>
        <p:xfrm>
          <a:off x="4238640" y="1600200"/>
          <a:ext cx="193356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8640" y="1600200"/>
                    <a:ext cx="1933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3"/>
          <p:cNvGraphicFramePr/>
          <p:nvPr/>
        </p:nvGraphicFramePr>
        <p:xfrm>
          <a:off x="3048120" y="3429000"/>
          <a:ext cx="4762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429000"/>
                    <a:ext cx="4762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6"/>
          <p:cNvGraphicFramePr/>
          <p:nvPr/>
        </p:nvGraphicFramePr>
        <p:xfrm>
          <a:off x="533520" y="4343400"/>
          <a:ext cx="58672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343400"/>
                    <a:ext cx="5867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5"/>
          <p:cNvGraphicFramePr/>
          <p:nvPr/>
        </p:nvGraphicFramePr>
        <p:xfrm>
          <a:off x="851040" y="5664240"/>
          <a:ext cx="13586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1040" y="5664240"/>
                    <a:ext cx="1358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6"/>
          <p:cNvGraphicFramePr/>
          <p:nvPr/>
        </p:nvGraphicFramePr>
        <p:xfrm>
          <a:off x="2514600" y="5638680"/>
          <a:ext cx="140796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5638680"/>
                    <a:ext cx="1407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7"/>
          <p:cNvGraphicFramePr/>
          <p:nvPr/>
        </p:nvGraphicFramePr>
        <p:xfrm>
          <a:off x="4184640" y="5638680"/>
          <a:ext cx="1454040" cy="47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84640" y="5638680"/>
                    <a:ext cx="1454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2"/>
          <p:cNvGraphicFramePr/>
          <p:nvPr/>
        </p:nvGraphicFramePr>
        <p:xfrm>
          <a:off x="1130400" y="6242040"/>
          <a:ext cx="1195200" cy="31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4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0400" y="6242040"/>
                    <a:ext cx="11952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3"/>
          <p:cNvGraphicFramePr/>
          <p:nvPr/>
        </p:nvGraphicFramePr>
        <p:xfrm>
          <a:off x="2590920" y="6095880"/>
          <a:ext cx="1295280" cy="542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6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6095880"/>
                    <a:ext cx="1295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4"/>
          <p:cNvGraphicFramePr/>
          <p:nvPr/>
        </p:nvGraphicFramePr>
        <p:xfrm>
          <a:off x="4114800" y="6019920"/>
          <a:ext cx="1549440" cy="676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8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14800" y="6019920"/>
                    <a:ext cx="154944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5"/>
          <p:cNvGraphicFramePr/>
          <p:nvPr/>
        </p:nvGraphicFramePr>
        <p:xfrm>
          <a:off x="5962680" y="2577960"/>
          <a:ext cx="1428840" cy="1155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0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62680" y="2577960"/>
                    <a:ext cx="142884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:RR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5085-56E3-4BE1-8F2D-304E025014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7200" y="220968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447920" y="2286000"/>
          <a:ext cx="4952880" cy="2819520"/>
        </p:xfrm>
        <a:graphic>
          <a:graphicData uri="http://schemas.openxmlformats.org/drawingml/2006/table">
            <a:tbl>
              <a:tblPr/>
              <a:tblGrid>
                <a:gridCol w="1031760"/>
                <a:gridCol w="939960"/>
                <a:gridCol w="1131840"/>
                <a:gridCol w="812520"/>
                <a:gridCol w="1036800"/>
              </a:tblGrid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Spong book: page 1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2, 3.3, 3.4, 3.6 , 3.7, 3.8, 3.9, 3.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lass on next 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799F-3BA5-48E8-9730-6D4A371C58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DD21-7533-457F-A647-4E201E5B00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009880" cy="1380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7" descr=""/>
          <p:cNvPicPr/>
          <p:nvPr/>
        </p:nvPicPr>
        <p:blipFill>
          <a:blip r:embed="rId2"/>
          <a:stretch/>
        </p:blipFill>
        <p:spPr>
          <a:xfrm>
            <a:off x="457200" y="1062000"/>
            <a:ext cx="7467480" cy="25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16"/>
          <p:cNvGraphicFramePr/>
          <p:nvPr/>
        </p:nvGraphicFramePr>
        <p:xfrm>
          <a:off x="1855800" y="4038480"/>
          <a:ext cx="294336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5800" y="4038480"/>
                    <a:ext cx="29433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Rectangle 3"/>
          <p:cNvSpPr/>
          <p:nvPr/>
        </p:nvSpPr>
        <p:spPr>
          <a:xfrm>
            <a:off x="457200" y="40384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                                    are  Roll, Pitch, and Y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present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kinema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927000" y="2347920"/>
          <a:ext cx="198756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347920"/>
                    <a:ext cx="198756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5"/>
          <p:cNvGraphicFramePr/>
          <p:nvPr/>
        </p:nvGraphicFramePr>
        <p:xfrm>
          <a:off x="4927680" y="2903400"/>
          <a:ext cx="3097080" cy="19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7680" y="2903400"/>
                    <a:ext cx="30970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Slide Number Placeholder 5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0D67-CE03-419D-8472-8FEFDE6D51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800960" y="160020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ery simple way of modeling robot links and joints that can be used for any kind of robot config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echnique has became the standard way of representing robots and modeling their mo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6730-775B-4F05-BCEB-EBE1AB0493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s: we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+1 links. Link 0 is the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oints are numbered from 1 to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i connects link i − 1 to link 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 {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ttached to joi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+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{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attached to the robot base (inertial frame) “joint 1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145B-31F3-4829-A238-33558FE549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a reference frame to each joi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-axis and z-axis). The D-H representation does not use the y-axis at 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homogeneous transform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represented as a product of four basic transform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B626-321B-4DE1-B8E7-B9530EE090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FBEA-08A6-4CA6-8EB9-19275A61F1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rix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resenting the four movements is found by: four m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7"/>
          <p:cNvGraphicFramePr/>
          <p:nvPr/>
        </p:nvGraphicFramePr>
        <p:xfrm>
          <a:off x="1066680" y="3962520"/>
          <a:ext cx="548640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962520"/>
                    <a:ext cx="54864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9"/>
          <p:cNvGraphicFramePr/>
          <p:nvPr/>
        </p:nvGraphicFramePr>
        <p:xfrm>
          <a:off x="349200" y="2438280"/>
          <a:ext cx="503244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0" y="2438280"/>
                    <a:ext cx="503244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EAEA-D295-4388-B92C-1CCC06D9B3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1447920" y="4800600"/>
          <a:ext cx="4144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80060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685800" y="1447920"/>
                <a:ext cx="39304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4648320" y="144792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523880" y="1829880"/>
            <a:ext cx="6096240" cy="406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762120" y="3048120"/>
                <a:ext cx="7048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nk and joint parameter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leng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: the offset distance between the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nd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es along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offset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he distance from the origin of frame i−1 to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o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DAA3-9B8D-4CA5-99A4-FB1AB6D771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77AE-FD75-4882-8ED0-1F91C736DE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0880" y="1414440"/>
            <a:ext cx="3581640" cy="29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233496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33520" y="4179960"/>
            <a:ext cx="815328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k tw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:the angle from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 to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 about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sense for α is determined from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right-hand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oint angle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ngle between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es about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</cp:lastModifiedBy>
  <dcterms:modified xsi:type="dcterms:W3CDTF">2009-09-15T01:45:51Z</dcterms:modified>
  <cp:revision>174</cp:revision>
  <dc:subject/>
  <dc:title>Robot Kinematics II </dc:title>
</cp:coreProperties>
</file>